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99E-B1DD-45C2-86B2-8A835240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7BE-B076-400A-9576-9337E1B9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3B9-B0BD-4777-98F3-43FEA70A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096-FAF4-4DD1-843A-9FCAA45A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B36C2-9CEE-4B7C-A88C-1627D767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24D74-1EEA-4920-B43D-35FC75B7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B0C1C-D501-471C-8D10-4FFE7E0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0B00-31E4-47C8-B6BF-C22B1140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201A4-9187-4DBD-AB94-BA23AFF0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FBE82-C088-410D-80DF-17CE0DED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5BAE5-B6A0-4ADF-A96F-BBCA1EC8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9E6-C15C-47D7-92F7-45E108FE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79BFF-808E-4761-875E-306CFA7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2A72-426C-484E-AC49-60998E1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04EA4-337E-4527-9637-DCB1F9C7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91463-210C-4707-B130-E76ED776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C13AD-A15D-4E3F-9FD5-B58E58C7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824-A233-4048-8A4B-F8E4BDB8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A5E-E599-423B-AC84-781B75B9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1EC-4081-4E2C-9FBE-AAD58F29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CB5-B155-4EE0-9D93-2283E500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20E-12B2-43A0-B16F-DB7B0F37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FF6-DF17-421E-9C1C-48B7F76D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FCF-966E-42B2-90F8-9C30B53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774D-CC88-48B2-BD2B-8AA8749C4D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6FA0-869E-4D10-A503-EA3D5C2934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st Coast Impact Athletic Leagu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 Annual !!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Information Meeting March 10</a:t>
            </a:r>
            <a:r>
              <a:rPr b="0" lang="en-US" sz="2400" spc="-1" strike="noStrike" baseline="30000">
                <a:solidFill>
                  <a:srgbClr val="e3e3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s must be fully self sufficient and carry everything needed for 2 day event on their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s must be 6-8 members with a minimum of 2 gi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s must provide a chaperone and at least 1 other volunt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is $50 per racer and includes camp fees, after race dinner, awards and equipment used at check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multiple kids racing each additional racer is $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 participation IS requi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point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check in at the checkpoint (there is no minimum time at checkpoints this y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tems needed to complete the activity will be at the check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be scored in various categories including completion of task, teamwork, attitude, creativity and overall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also be scored on overal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both personal and team equip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pick up an equipment list before you le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ill be safety personnel on the course at all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is a safety expert! If you see something that you think is unsafe please bring it to the attention of an 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nk plenty of fluids in the days leading up to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proper hydration you have to monitor what’s going in and what’s coming out. So, let’s talk about PE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Water"/>
          <p:cNvPicPr/>
          <p:nvPr/>
        </p:nvPicPr>
        <p:blipFill>
          <a:blip r:embed="rId1"/>
          <a:stretch/>
        </p:blipFill>
        <p:spPr>
          <a:xfrm>
            <a:off x="0" y="3809880"/>
            <a:ext cx="3386160" cy="221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Lemonade"/>
          <p:cNvPicPr/>
          <p:nvPr/>
        </p:nvPicPr>
        <p:blipFill>
          <a:blip r:embed="rId2"/>
          <a:stretch/>
        </p:blipFill>
        <p:spPr>
          <a:xfrm>
            <a:off x="3352680" y="38098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pple Juice"/>
          <p:cNvPicPr/>
          <p:nvPr/>
        </p:nvPicPr>
        <p:blipFill>
          <a:blip r:embed="rId3"/>
          <a:stretch/>
        </p:blipFill>
        <p:spPr>
          <a:xfrm>
            <a:off x="6095880" y="3809880"/>
            <a:ext cx="3048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changes from last years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gered start instead of shotgun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med check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course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 of new and recycled check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imple scoring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 will be a running total of checkpoint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tr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inf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or Jodie Joslin 916-402-56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westcoastimpac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die@westcoastimpac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@westcoastimpact.c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Lightfo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@westcoastimpact.c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st Coast Impact Athletic Leagu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WCIA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the leaders / coach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eers!! Please be thinking about how you can volunteer as we discuss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Impact Eco Challen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2 day TEAM endurance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of 6-8 compete in multiple challenges while hiking a 25ish mile cour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be scored on challenges and overall time on the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stations will include both physical and ment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mpact Eco Challeng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 to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Hiking"/>
          <p:cNvPicPr/>
          <p:nvPr/>
        </p:nvPicPr>
        <p:blipFill>
          <a:blip r:embed="rId1"/>
          <a:stretch/>
        </p:blipFill>
        <p:spPr>
          <a:xfrm>
            <a:off x="5334120" y="5486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Trail sign"/>
          <p:cNvPicPr/>
          <p:nvPr/>
        </p:nvPicPr>
        <p:blipFill>
          <a:blip r:embed="rId2"/>
          <a:stretch/>
        </p:blipFill>
        <p:spPr>
          <a:xfrm>
            <a:off x="1219320" y="3429000"/>
            <a:ext cx="289548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Rappel 2"/>
          <p:cNvPicPr/>
          <p:nvPr/>
        </p:nvPicPr>
        <p:blipFill>
          <a:blip r:embed="rId3"/>
          <a:stretch/>
        </p:blipFill>
        <p:spPr>
          <a:xfrm>
            <a:off x="5619600" y="1638360"/>
            <a:ext cx="2838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po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mpact Eco Challeng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uild personal conf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erience and build team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ain experiences that will last a life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ilver lake island scout sto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ompete in a friendly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ave fu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Da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no mandatory training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registration deadline April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erone and volunteer meeting Wed. April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6 PM (Joslin ho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iday and Saturday May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y Park / Jenkinson L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sly park map"/>
          <p:cNvPicPr/>
          <p:nvPr/>
        </p:nvPicPr>
        <p:blipFill>
          <a:blip r:embed="rId1"/>
          <a:stretch/>
        </p:blipFill>
        <p:spPr>
          <a:xfrm>
            <a:off x="1447920" y="1371600"/>
            <a:ext cx="61992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 through of race day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must check in at the campground Friday mo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be positioned for a “staggered” start at several places on the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 begins at different times for different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bed-down at the campground after day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 through of race day Satur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pack-up camp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again be positioned for a staggered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finish at the same point that they 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ds ceremony and dinner to fo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7:32:17Z</dcterms:created>
  <dc:creator>User</dc:creator>
  <dc:description/>
  <dc:language>en-US</dc:language>
  <cp:lastModifiedBy>spd0560@yahoo.com</cp:lastModifiedBy>
  <dcterms:modified xsi:type="dcterms:W3CDTF">2016-03-06T03:25:07Z</dcterms:modified>
  <cp:revision>22</cp:revision>
  <dc:subject/>
  <dc:title>West Coast Impact Athletic League</dc:title>
</cp:coreProperties>
</file>