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E4E7-E2FB-4EF0-B2FC-C562B035C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6806-7D7E-43F5-A73C-CF288E6C9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1B65-FF19-4A3F-B67D-3A4A3654A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EE06-293A-4F65-9346-6F7D4F99D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5747C8-4E47-48A4-ABA9-B8F1B99D9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719EE1-AEE8-4C88-9ADF-3516B87B7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EE6706-ABA3-43F7-8B1F-52C8C2CA3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DE22A4-8168-4641-8EBA-AC59379A4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7F2258-BE3E-43F5-8F4D-D13542523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4F1654-82E0-4DC1-A0DB-F705DFC0A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411E45-A42E-4483-A61D-ABCFF5139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AAD0-FBBA-45DD-A87E-FBD6264A5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2E9B30-823E-408A-92AC-275E66DF1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C4508A-2678-49FB-B828-93B8D7EA7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452DB8-DC9D-4605-B6FB-18591094D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82E5C8-713C-4628-B1BF-11A0AD7EF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439688-EA63-4163-8355-A3F7CF7A7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FEA5-D448-4002-948B-18FCC100B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18F2-7FEE-4D56-8019-E5636F369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E1BB-DF07-46D1-ADE6-9A65BBF33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CF79-2727-4003-86B1-F4B804C4E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CFEC-DB6F-443D-A07F-B5CE0926A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3D07-BC23-4B26-8A65-3983DA9A9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8419-3B34-4317-9C5B-04B216B68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4EF3C-B8BA-4DC7-9859-606B1DABDEE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1F7C2-702B-4AE9-9968-C479E2256DD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est Coast Impact Athletic League</a:t>
            </a: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9900"/>
                </a:solidFill>
                <a:latin typeface="Arial"/>
              </a:rPr>
              <a:t>2</a:t>
            </a:r>
            <a:r>
              <a:rPr b="0" lang="en-US" sz="4800" spc="-1" strike="noStrike" baseline="30000">
                <a:solidFill>
                  <a:srgbClr val="ff9900"/>
                </a:solidFill>
                <a:latin typeface="Arial"/>
              </a:rPr>
              <a:t>nd</a:t>
            </a:r>
            <a:r>
              <a:rPr b="0" lang="en-US" sz="4800" spc="-1" strike="noStrike">
                <a:solidFill>
                  <a:srgbClr val="ff9900"/>
                </a:solidFill>
                <a:latin typeface="Arial"/>
              </a:rPr>
              <a:t> Annual !!!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9900"/>
                </a:solidFill>
                <a:latin typeface="Arial"/>
              </a:rPr>
              <a:t>Impact Eco Challeng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3ff"/>
                </a:solidFill>
                <a:latin typeface="Arial"/>
              </a:rPr>
              <a:t>Information Meeting March 10</a:t>
            </a:r>
            <a:r>
              <a:rPr b="0" lang="en-US" sz="2400" spc="-1" strike="noStrike" baseline="30000">
                <a:solidFill>
                  <a:srgbClr val="e3e3ff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e3e3ff"/>
                </a:solidFill>
                <a:latin typeface="Arial"/>
              </a:rPr>
              <a:t> 201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Impact Eco Challeng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ams must be fully self sufficient and carry everything needed for 2 day event on their ba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ams must be 6-8 members with a minimum of 2 gir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ams must provide a chaperone and at least 1 other volunte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Impact Eco Challeng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st is $50 per racer and includes camp fees, after race dinner, awards and equipment used at checkpoi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you have multiple kids racing each additional racer is $4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ent participation IS require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Impact Eco Challeng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eckpoint ope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ams will check in at the checkpoint (there is no minimum time at checkpoints this yea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 items needed to complete the activity will be at the checkpoi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ams will be scored in various categories including completion of task, teamwork, attitude, creativity and overall exec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ams will also be scored on overall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Impact Eco Challeng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are both personal and team equipment requir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ease pick up an equipment list before you lea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Impact Eco Challeng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fe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will be safety personnel on the course at all ti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eryone is a safety expert! If you see something that you think is unsafe please bring it to the attention of an adul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Impact Eco Challeng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315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yd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rink plenty of fluids in the days leading up to ev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 proper hydration you have to monitor what’s going in and what’s coming out. So, let’s talk about PEE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4" descr="Water"/>
          <p:cNvPicPr/>
          <p:nvPr/>
        </p:nvPicPr>
        <p:blipFill>
          <a:blip r:embed="rId1"/>
          <a:stretch/>
        </p:blipFill>
        <p:spPr>
          <a:xfrm>
            <a:off x="0" y="3809880"/>
            <a:ext cx="3386160" cy="22100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6" descr="Lemonade"/>
          <p:cNvPicPr/>
          <p:nvPr/>
        </p:nvPicPr>
        <p:blipFill>
          <a:blip r:embed="rId2"/>
          <a:stretch/>
        </p:blipFill>
        <p:spPr>
          <a:xfrm>
            <a:off x="3352680" y="3809880"/>
            <a:ext cx="2743200" cy="22100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8" descr="Apple Juice"/>
          <p:cNvPicPr/>
          <p:nvPr/>
        </p:nvPicPr>
        <p:blipFill>
          <a:blip r:embed="rId3"/>
          <a:stretch/>
        </p:blipFill>
        <p:spPr>
          <a:xfrm>
            <a:off x="6095880" y="3809880"/>
            <a:ext cx="304812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Impact Eco Challeng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mmary of changes from last years ev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ggered start instead of shotgun sta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timed checkpoi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reased course leng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x of new and recycled checkpoi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re simple scoring ru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ore will be a running total of checkpoint poi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gressive troph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Impact Eco Challeng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act inf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ill or Jodie Joslin 916-402-563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ww.westcoastimpact.c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odie@westcoastimpact.c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ill@westcoastimpact.com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ohn Lightfoo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ohn@westcoastimpact.com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estions?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West Coast Impact Athletic League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WCIAL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o are the leaders / coach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olunteers!! Please be thinking about how you can volunteer as we discuss the 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Impact Eco Challen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Impact Eco Challeng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the Impact Eco Challeng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2 day TEAM endurance r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ams of 6-8 compete in multiple challenges while hiking a 25ish mile cours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ams will be scored on challenges and overall time on the cou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llenge stations will include both physical and mental challen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Impact Eco Challeng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did the 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Impact Eco Challeng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e to b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6" descr="Hiking"/>
          <p:cNvPicPr/>
          <p:nvPr/>
        </p:nvPicPr>
        <p:blipFill>
          <a:blip r:embed="rId1"/>
          <a:stretch/>
        </p:blipFill>
        <p:spPr>
          <a:xfrm>
            <a:off x="5334120" y="5486400"/>
            <a:ext cx="3809880" cy="2133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Trail sign"/>
          <p:cNvPicPr/>
          <p:nvPr/>
        </p:nvPicPr>
        <p:blipFill>
          <a:blip r:embed="rId2"/>
          <a:stretch/>
        </p:blipFill>
        <p:spPr>
          <a:xfrm>
            <a:off x="1219320" y="3429000"/>
            <a:ext cx="2895480" cy="19447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0" descr="Rappel 2"/>
          <p:cNvPicPr/>
          <p:nvPr/>
        </p:nvPicPr>
        <p:blipFill>
          <a:blip r:embed="rId3"/>
          <a:stretch/>
        </p:blipFill>
        <p:spPr>
          <a:xfrm>
            <a:off x="5619600" y="1638360"/>
            <a:ext cx="2838600" cy="28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Impact Eco Challeng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’s the poin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oint of the 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Impact Eco Challeng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build personal confid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experience and build teamwork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gain experiences that will last a life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Silver lake island scout sto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compete in a friendly environ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have fun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Impact Eco Challeng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ortant Dat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are no mandatory training d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am registration deadline April 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perone and volunteer meeting Wed. April 2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t 6 PM (Joslin hom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Impact Eco Challeng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riday and Saturday May 6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7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ly Park / Jenkinson Lak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Impact Eco Challeng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8" name="Picture 4" descr="sly park map"/>
          <p:cNvPicPr/>
          <p:nvPr/>
        </p:nvPicPr>
        <p:blipFill>
          <a:blip r:embed="rId1"/>
          <a:stretch/>
        </p:blipFill>
        <p:spPr>
          <a:xfrm>
            <a:off x="1447920" y="1371600"/>
            <a:ext cx="6199200" cy="39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Impact Eco Challeng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lk through of race day Frid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am must check in at the campground Friday mor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ams will be positioned for a “staggered” start at several places on the cou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ent begins at different times for different tea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ams bed-down at the campground after day 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Impact Eco Challeng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lk through of race day Saturd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ams will pack-up camp at the same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ams will again be positioned for a staggered sta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ams will finish at the same point that they star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wards ceremony and dinner to foll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02T17:32:17Z</dcterms:created>
  <dc:creator>User</dc:creator>
  <dc:description/>
  <dc:language>en-US</dc:language>
  <cp:lastModifiedBy>spd0560@yahoo.com</cp:lastModifiedBy>
  <dcterms:modified xsi:type="dcterms:W3CDTF">2016-03-06T03:25:07Z</dcterms:modified>
  <cp:revision>22</cp:revision>
  <dc:subject/>
  <dc:title>West Coast Impact Athletic League</dc:title>
</cp:coreProperties>
</file>